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1FB-6EDC-43AB-92F2-D5D8AB73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AAA-1621-4209-9066-A1DE381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A8E-C050-496B-BD5A-950D6E9D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D20-3A9B-4B22-B28D-E1F5597C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0B5E-0D64-4980-997E-CA028E58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4C50-226B-4D22-85C5-BB4C6E0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CCAE-835E-4247-A228-224D7FBD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9B9-4D12-4DD1-8A73-64064A5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2596-E4D6-4E72-AC90-3019FAB0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19F8-E93A-40A8-9560-2B929E3C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A5F7-70B8-4B89-896F-56B3573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383-2381-440A-8500-09B32D19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9EAE-225A-45C5-B438-70708D0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61D1-0DD3-428B-A437-EA7A54E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C1A9-90E4-4266-98F2-D786DDB0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A324-8320-4A64-9789-3F757147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9DF-02E1-4B78-8B50-F91260BA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1CC-B5C6-4BFB-B484-1994178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050-5DC0-4544-870D-415AE91A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171-EF57-44DE-A06A-A831E287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947-37A9-48B6-9159-4F47186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284-C397-4DEF-A2B2-4C438E63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025-6BEE-43BA-9A42-465FCCB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EE1-FF2B-4288-8C49-62C09EA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20F12E-8AC4-4ABD-A9DC-3FFC3A28B6D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D7205F-6759-4CAC-BA51-BA14DC306CA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preendedorism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Noções Básicas de Matemática Finance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449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Actualização dum fluxo de quantias datadas futur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2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o analisar um projecto, caracterizado por um fluxo previsional de quantias distribuídas por um certo número de anos futuros, o que é necessário calcular é o valor actual do conjunto dessas quanti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ndo as quantias futuras a actualizar são diferentes umas das outras tem de determinar-se o valor actual de cada uma dessas quantias separadamen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preendedorism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Critérios e medidas de rendibilidade empresarial de um proje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usto de oportunid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valiação do interesse efectivo de um projecto exige que se actualizem os valores aplicados e recuperados no projecto por causa da inflação, do risco do investimento e da recompensa mínima esperada pela aplicação de capitai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inflação, o risco e a recompensa são agrupados numa taxa i que representa o custo de oportunidade do capit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s e perspectivas de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spectiva da rendibilidade total (do projec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eutraliza-se, na medida do possível, o impacto da estrutura de financiamento usadas; os resultados da análise não dependem do tipo de financiamento adoptado, apenas da capacidade económica intrínseca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ão considerar como custos de exploração os encargos financeiros do financiamen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cash-flow é assim o fluxo financeiro disponível para remunerar todos os financiadores, sejam eles accionistas ou investidores extern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s e perspectivas de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spectiva da rendibilidade para o investid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fere-se à parte do fluxo financeiro gerado pelo projecto que é pertença dos accionist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sidera como custos de exploração os encargos financeiros (juros) e os reembolsos de empréstim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rmite verificar qual é a taxa de rendibilidade que os accionistas podem esperar dos montantes mobilizados por si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erença entre o somatório dos benefícios traduzidos em valores de entradas de caixa e o somatório dos custos de investimento e de exploração traduzido em valores de saídas de caix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ldo dos fluxos de entrada e saída de caixa decorrentes da realização do projec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amortizações não são consideradas como custos ou fluxo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 cash-f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correspondem a uma efectiva saída de numerár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averia uma duplicação de custos, uma vez que, no cash-flow, são considerados o investimento inicial do projecto e os investimentos de substitui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sh-flow (perspectiva do projec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juros ou encargos financeiros não são consideradas como custos ou fluxo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do cash-flo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fluenciariam os resultados do projecto face à estrutura de financiamento adoptada pelo investidor; o projecto não deve ser penalizado pela forma como é financia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istiria duplicação na contabilização dos custos do projecto, uma vez que o factor juro já é tomado automaticamente em conta quando se considera a actualização à taxa i, independentemente de se saber se o capital é do promotor ou do banc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ash-fl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impostos sobre os lucros são considerados como custos ou fluxo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 cash-f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ideram-se no cash-flow como variável autónoma dos outros cust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971720" indent="-362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es impostos só podem ser calculados após o tratamento contabilístico de todos os proveitos e custos da conta de exploração; os impostos incidem sobre o resultado líquido de exercíc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sh-flow (perspectiva do projec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h-flow de exploração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ado líqu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Amortiz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Provisõ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Encargos financeiros do financi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uro e capitaliz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tualiz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ritérios de avaliação para investimentos com período de maturação long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Líquido Actualizad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ácio Benefícios-Cus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a Interna de Rendibilida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íodo de Recuperação do Capi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Valor Líquido Actualizado (V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ferença entre os valores dos recebimentos e dos pagamentos previsionais depois de actualizados a uma taxa a defini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 a soma das diferenças, ano a ano, entre os recebimentos e os pagamentos de investimento e de exploração gerados por um projecto, actualizadas para um ano ba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Valor Líquido Actualizado (V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∑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 + 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=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recebimentos do projecto no ano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pagamentos de exploração do projecto no ano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Custos de investimento do projecto no ano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 – taxa de actu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 (0 a n) – ano de vida útil do projec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o V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A &gt;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rendibilidade superior à alternativa de referência (o custo de oportunidade do capital considerad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recupera o investimento inicial, remunera o capital investido a uma taxa i igual à taxa de actualização e gera um excedente que corresponde ao VLA; o projecto pode ser aprov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o V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A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à taxa i (o custo de oportunidade do capital considerado) que representa o limiar mínimo para o investidor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recupera o investimento inicial e remunera o capital investido a uma taxa i igual à taxa de actualização; é indiferente realizar, ou não, o projec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o V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A &lt;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não ger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benefícios líquidos que permitem recuperar os recursos aplicados e/ou remunerar os capitais à tax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até pode recuperar o investimento inicial mas não remunera o capital investido da mesmo modo que a alternativa de referência; o projecto deve ser rejeit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Rácio Benefício-Custos (RB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ociente entre os valores dos recebimentos e dos pagamentos depois de actualizad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    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[∑ 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/ [∑ (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=0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  t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             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[∑ 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 / [∑ 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=0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            t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ociente entre os benefícios líquidos (benefícios menos custos de exploração e investimento) actualizados positivos e negativ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ácio Benefício-Custos (RB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BC &gt;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rendibilidade superior à alternativa de referência (o custo de oportunidade do capital considerad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recupera o investimento inicial, remunera o capital investido a uma taxa i igual à taxa de actualização e gera um excedente quando o RBC é maior que 1; o projecto pode ser aprov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ácio Benefício-Custos (RB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BC &lt;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não gera os benefícios líquidos que permitem recuperar os recursos aplicados e/ou remunerar os capitais à tax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até pode recuperar o investimento inicial mas não remunera o capital investido da mesmo modo que a alternativa de referência; o projecto deve ser rejeit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Taxa Interna de Rendibilidade (TI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de a taxa de juro anual efectivamente proporcionada durante o período de vida útil pelo conjunto dos capitais nele aplicados, ou o rendimento anual produzido durante o período de vida útil do investimento depois de recuperados os respectivos custos (de investimento e de exploração) por unidade de capital nele aplic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-571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valor temporal do dinhei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um projecto os custos e os benefícios vão ocorrendo ao longo de vários an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tempo influencia o valor do dinheiro por via da inflação, do risco e da compensação esperada pelo invest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Taxa Interna de Rendibilidade (TI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a de actualização para a qual o VLA de um projecto se anu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∑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 + TIR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t=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Recebimentos do projecto no ano 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Pagamentos de exploração do projecto no ano 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Pagamentos de investimento do projecto no ano 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 (0 a n) – ano de vida útil do proj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a T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R &gt;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taxa de rendibilidade superior à alternativa de referência (o custo de oportunidade do capital considerad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recupera o investimento inicial, remunera o capital investido a uma taxa i igual à taxa de actualização e gera um excedente que corresponde à diferença entre a TIR e 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a T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R =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gera benefícios líquidos que permitem recuperar os recursos aplicados e remunerar os capitais a uma taxa igual 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recupera o investimento inicial e remunera o capital investido a uma taxa igual à taxa de actualização i; é indiferente realizar, ou não, o projec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Decisão de investimento com a T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R &lt;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não ger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benefícios líquidos que permitem recuperar os recursos aplicados e/ou remunerar os capitais à taxa i (o custo de oportunidade do capital considerado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 projecto até pode recuperar o investimento inicial mas não remunera o capital investido da mesmo modo que a alternativa de referência i; o projecto deve ser rejeit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itérios e medidas de rendibilidade empresa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2396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eríodo (tempo) de recuperação do investimento (P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-525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úmero de anos do período de vida útil dum investimento necessários para que o fluxo de recebimentos líquidos positivos iguale o montante total investid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 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∑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 ∑ (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60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=0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=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4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081160"/>
                <a:tab algn="l" pos="2995560"/>
                <a:tab algn="l" pos="3909960"/>
                <a:tab algn="l" pos="4824360"/>
                <a:tab algn="l" pos="5738760"/>
                <a:tab algn="l" pos="6653160"/>
                <a:tab algn="l" pos="7567560"/>
                <a:tab algn="l" pos="8481960"/>
                <a:tab algn="l" pos="9396360"/>
                <a:tab algn="l" pos="103107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m que tp é o período de recuper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5640" indent="-571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valor temporal do dinhei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5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necessário uniformizar essas quantias financeiras, reportando-as a um mesmo momento de modo a permitir a sua compar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2440" indent="-449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capitalização duma aplicação (juros composto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2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futuro de uma quantia datada actu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no ano t (valor futu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inicial (ano b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– taxa de capitalização anual (constan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 –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capit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de 20000 euros (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o fim de 5 anos (t) a uma taxa que compensa o risco e a remuneração do capital de 10%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+ (20000x0,10) = 220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 = 220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2000 +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(22000x0,10) = 24200 eur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42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capit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4200 + (24200x0,10) = 2662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662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6620 + (26620x0,10) = 2928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928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9282 + (29282x0,10) = 32210,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x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32210,2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actu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actual de quantias datadas futur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/ (1+i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no ano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valor inicial (ano b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– taxa de actualiz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 –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Noções básicas de Matemática Finance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3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 processo de actualização duma aplicaçã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or presente (actual) de um valor futuro de 32210,2 euros (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 ser obtido daqui a 5 anos (t); a taxa que compensa o risco e a remuneração do capital é de 10%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-52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32210,2 / (1+0,10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32210,2 / 1,6105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15960"/>
                <a:tab algn="l" pos="1530360"/>
                <a:tab algn="l" pos="2444760"/>
                <a:tab algn="l" pos="3359160"/>
                <a:tab algn="l" pos="4273560"/>
                <a:tab algn="l" pos="5187960"/>
                <a:tab algn="l" pos="6102360"/>
                <a:tab algn="l" pos="7016760"/>
                <a:tab algn="l" pos="7931160"/>
                <a:tab algn="l" pos="8845560"/>
                <a:tab algn="l" pos="97599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0000 eu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5-26T23:22:46Z</dcterms:modified>
  <cp:revision>6</cp:revision>
  <dc:subject/>
  <dc:title>Introdução às Políticas Agrárias</dc:title>
</cp:coreProperties>
</file>